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2B8-6581-46FB-82F3-B0D3B97F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71C-5FBA-4584-86FE-2BCA09E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B3E-DD17-4224-B889-56D1A78A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1A4-AE15-4F97-9788-3AED6035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0D4-3F3D-4AFC-858F-459FE56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97F-D504-4D1F-946C-95087A7B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585-FA25-4C98-9DA3-3F015EE8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2AB-21B7-4E93-9A12-D93C7F8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F07-AE15-4256-87CF-450CB01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A31-8B51-4DC4-BA54-3C952DF0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D3A-D627-4E40-8A61-CEB748AE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83C-0C7E-4940-AF5C-C7984913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4849-87D1-4D70-A532-4DBC4F69660F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12D-0A3B-4725-AB8A-3A6A6084D204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Resonant) 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2766" t="0" r="0" b="0"/>
          <a:stretch/>
        </p:blipFill>
        <p:spPr>
          <a:xfrm>
            <a:off x="0" y="609480"/>
            <a:ext cx="4162320" cy="568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57600" y="609480"/>
            <a:ext cx="54864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-XPS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s-XPS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d3d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76520"/>
            <a:ext cx="11430000" cy="447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0 8065.4790 .00  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8           8  862.3000   14.0221    8.7641   00.1122   11.5062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8.3503    6.3324    3.60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9L          6  862.3000   00.1022   11.5072    7.7213    5.787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3.2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0 8065.4790 .00  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10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9L          6  862.3000   00.1022   11.5072    7.7213    5.787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3.2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10L2        2  862.3000   11.5092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76520"/>
            <a:ext cx="1143000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3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3 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G2 =  3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F2 =  -5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3 =  14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3 =  -3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MIX 4    3. 3. 1.5 1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   1 1 2   1 2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MIX 4    3. 3. 1.5 1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   2 1 2   2 2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HAM 4  1.0 1.0 0.0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6   1 1   1 2   1 3   2 1   2 2   2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3    1 1    2 2    3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I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3sxps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TER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shell03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01  D09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D09  P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01  D10  D08  P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1 3d9 p     3  110.0000     .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852   12.880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1 3d10p     1  110.0000     .0000   00.0004     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3s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5932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S01  D09 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  <a:ea typeface="MS Mincho"/>
              </a:rPr>
              <a:t>D09  P01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= 3s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3d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urier New"/>
                <a:ea typeface="MS Mincho"/>
              </a:rPr>
              <a:t>9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urier New"/>
                <a:ea typeface="MS Mincho"/>
              </a:rPr>
              <a:t>L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56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53400" y="83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1520" y="374508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No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3120" y="373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944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and 3s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33280" y="35812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2pX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3480" y="5335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3sX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2040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9024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5729" t="0" r="4583" b="0"/>
          <a:stretch/>
        </p:blipFill>
        <p:spPr>
          <a:xfrm>
            <a:off x="0" y="685800"/>
            <a:ext cx="9144000" cy="4124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962680" y="5257800"/>
            <a:ext cx="2960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Phys. Soc.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1, 449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0413" t="16994" r="26352" b="19826"/>
          <a:stretch/>
        </p:blipFill>
        <p:spPr>
          <a:xfrm>
            <a:off x="533520" y="533520"/>
            <a:ext cx="5330880" cy="5849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962680" y="5257800"/>
            <a:ext cx="2960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Phys. Soc.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1, 449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705720" cy="5342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99080" y="525780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9, 3195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685800"/>
            <a:ext cx="9143280" cy="5715000"/>
            <a:chOff x="0" y="685800"/>
            <a:chExt cx="9143280" cy="5715000"/>
          </a:xfrm>
        </p:grpSpPr>
        <p:grpSp>
          <p:nvGrpSpPr>
            <p:cNvPr id="197" name=""/>
            <p:cNvGrpSpPr/>
            <p:nvPr/>
          </p:nvGrpSpPr>
          <p:grpSpPr>
            <a:xfrm>
              <a:off x="9360" y="689760"/>
              <a:ext cx="9123120" cy="5706000"/>
              <a:chOff x="9360" y="689760"/>
              <a:chExt cx="9123120" cy="57060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9360" y="689760"/>
                <a:ext cx="2457000" cy="695880"/>
                <a:chOff x="9360" y="689760"/>
                <a:chExt cx="2457000" cy="695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47600" y="68976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9360" y="68976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467080" y="689760"/>
                <a:ext cx="2869200" cy="695880"/>
                <a:chOff x="2467080" y="689760"/>
                <a:chExt cx="2869200" cy="695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605320" y="68976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all electron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467080" y="68976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337360" y="689760"/>
                <a:ext cx="2128680" cy="695880"/>
                <a:chOff x="5337360" y="689760"/>
                <a:chExt cx="2128680" cy="695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474880" y="68976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partly filled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337360" y="68976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467120" y="689760"/>
                <a:ext cx="1665360" cy="695880"/>
                <a:chOff x="7467120" y="689760"/>
                <a:chExt cx="1665360" cy="695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04640" y="68976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direct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67120" y="68976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9360" y="1385640"/>
                <a:ext cx="2457000" cy="556560"/>
                <a:chOff x="9360" y="1385640"/>
                <a:chExt cx="2457000" cy="556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47600" y="13856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ground stat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360" y="13856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467080" y="1385640"/>
                <a:ext cx="2869200" cy="556560"/>
                <a:chOff x="2467080" y="1385640"/>
                <a:chExt cx="2869200" cy="5565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605320" y="13856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67080" y="13856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337360" y="1385640"/>
                <a:ext cx="2128680" cy="556560"/>
                <a:chOff x="5337360" y="1385640"/>
                <a:chExt cx="2128680" cy="5565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474880" y="13856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7360" y="13856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467120" y="1385640"/>
                <a:ext cx="1665360" cy="556560"/>
                <a:chOff x="7467120" y="1385640"/>
                <a:chExt cx="1665360" cy="5565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604640" y="13856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67120" y="13856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9360" y="1942200"/>
                <a:ext cx="2457000" cy="695880"/>
                <a:chOff x="9360" y="1942200"/>
                <a:chExt cx="2457000" cy="695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7600" y="19422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 core hol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(resonant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360" y="19422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467080" y="1942200"/>
                <a:ext cx="2869200" cy="695880"/>
                <a:chOff x="2467080" y="1942200"/>
                <a:chExt cx="2869200" cy="695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605320" y="19422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67080" y="19422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337360" y="1942200"/>
                <a:ext cx="2128680" cy="695880"/>
                <a:chOff x="5337360" y="1942200"/>
                <a:chExt cx="2128680" cy="695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474880" y="19422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337360" y="19422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467120" y="1942200"/>
                <a:ext cx="1665360" cy="695880"/>
                <a:chOff x="7467120" y="1942200"/>
                <a:chExt cx="1665360" cy="695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604640" y="19422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67120" y="19422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9360" y="2638080"/>
                <a:ext cx="2457000" cy="556560"/>
                <a:chOff x="9360" y="2638080"/>
                <a:chExt cx="2457000" cy="556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47600" y="263808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s3s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360" y="263808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467080" y="2638080"/>
                <a:ext cx="2869200" cy="556560"/>
                <a:chOff x="2467080" y="2638080"/>
                <a:chExt cx="2869200" cy="5565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605320" y="263808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0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467080" y="263808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337360" y="2638080"/>
                <a:ext cx="2128680" cy="556560"/>
                <a:chOff x="5337360" y="2638080"/>
                <a:chExt cx="2128680" cy="556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474880" y="263808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(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0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) 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337360" y="263808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7467120" y="2638080"/>
                <a:ext cx="1665360" cy="556560"/>
                <a:chOff x="7467120" y="2638080"/>
                <a:chExt cx="1665360" cy="5565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604640" y="263808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67120" y="263808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9360" y="3194640"/>
                <a:ext cx="2457000" cy="556560"/>
                <a:chOff x="9360" y="3194640"/>
                <a:chExt cx="2457000" cy="556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7600" y="31946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s3p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9360" y="31946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467080" y="3194640"/>
                <a:ext cx="2869200" cy="556560"/>
                <a:chOff x="2467080" y="3194640"/>
                <a:chExt cx="2869200" cy="556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605320" y="31946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467080" y="31946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337360" y="3194640"/>
                <a:ext cx="2128680" cy="556560"/>
                <a:chOff x="5337360" y="3194640"/>
                <a:chExt cx="2128680" cy="556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74880" y="31946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37360" y="31946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467120" y="3194640"/>
                <a:ext cx="1665360" cy="556560"/>
                <a:chOff x="7467120" y="3194640"/>
                <a:chExt cx="1665360" cy="556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04640" y="31946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67120" y="31946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9360" y="3751200"/>
                <a:ext cx="2457000" cy="695880"/>
                <a:chOff x="9360" y="3751200"/>
                <a:chExt cx="2457000" cy="695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47600" y="37512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p3p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9360" y="37512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467080" y="3751200"/>
                <a:ext cx="2869200" cy="695880"/>
                <a:chOff x="2467080" y="3751200"/>
                <a:chExt cx="2869200" cy="695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05320" y="37512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4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67080" y="37512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337360" y="3751200"/>
                <a:ext cx="2128680" cy="695880"/>
                <a:chOff x="5337360" y="3751200"/>
                <a:chExt cx="2128680" cy="695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474880" y="37512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4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37360" y="37512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67120" y="3751200"/>
                <a:ext cx="1665360" cy="695880"/>
                <a:chOff x="7467120" y="3751200"/>
                <a:chExt cx="1665360" cy="69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604640" y="37512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67120" y="37512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360" y="4447440"/>
                <a:ext cx="2457000" cy="556560"/>
                <a:chOff x="9360" y="4447440"/>
                <a:chExt cx="2457000" cy="5565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47600" y="44474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s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60" y="44474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467080" y="4447440"/>
                <a:ext cx="2869200" cy="556560"/>
                <a:chOff x="2467080" y="4447440"/>
                <a:chExt cx="2869200" cy="5565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605320" y="44474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67080" y="44474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337360" y="4447440"/>
                <a:ext cx="2128680" cy="556560"/>
                <a:chOff x="5337360" y="4447440"/>
                <a:chExt cx="2128680" cy="556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474880" y="44474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37360" y="44474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467120" y="4447440"/>
                <a:ext cx="1665360" cy="556560"/>
                <a:chOff x="7467120" y="4447440"/>
                <a:chExt cx="1665360" cy="556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04640" y="44474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67120" y="44474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360" y="5004000"/>
                <a:ext cx="2457000" cy="695880"/>
                <a:chOff x="9360" y="5004000"/>
                <a:chExt cx="2457000" cy="695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7600" y="50040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p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360" y="50040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467080" y="5004000"/>
                <a:ext cx="2869200" cy="695880"/>
                <a:chOff x="2467080" y="5004000"/>
                <a:chExt cx="2869200" cy="695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05320" y="50040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467080" y="50040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337360" y="5004000"/>
                <a:ext cx="2128680" cy="695880"/>
                <a:chOff x="5337360" y="5004000"/>
                <a:chExt cx="2128680" cy="695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474880" y="50040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37360" y="50040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467120" y="5004000"/>
                <a:ext cx="1665360" cy="695880"/>
                <a:chOff x="7467120" y="5004000"/>
                <a:chExt cx="1665360" cy="695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604640" y="50040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67120" y="50040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9360" y="5699880"/>
                <a:ext cx="2457000" cy="695880"/>
                <a:chOff x="9360" y="5699880"/>
                <a:chExt cx="2457000" cy="695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47600" y="569988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d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360" y="569988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467080" y="5699880"/>
                <a:ext cx="2869200" cy="695880"/>
                <a:chOff x="2467080" y="5699880"/>
                <a:chExt cx="2869200" cy="695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605320" y="569988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7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467080" y="569988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337360" y="5699880"/>
                <a:ext cx="2128680" cy="695880"/>
                <a:chOff x="5337360" y="5699880"/>
                <a:chExt cx="2128680" cy="695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74880" y="569988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37360" y="569988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467120" y="5699880"/>
                <a:ext cx="1665360" cy="695880"/>
                <a:chOff x="7467120" y="5699880"/>
                <a:chExt cx="1665360" cy="695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604640" y="569988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7120" y="569988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0" y="685800"/>
              <a:ext cx="9143280" cy="5715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Resonant 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36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1905120"/>
            <a:ext cx="0" cy="9144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441972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3276720"/>
            <a:ext cx="0" cy="914400"/>
          </a:xfrm>
          <a:prstGeom prst="line">
            <a:avLst/>
          </a:prstGeom>
          <a:ln cap="sq"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1905120"/>
            <a:ext cx="0" cy="9144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441972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380880"/>
            <a:ext cx="2895840" cy="1981440"/>
          </a:xfrm>
          <a:prstGeom prst="rect">
            <a:avLst/>
          </a:prstGeom>
          <a:solidFill>
            <a:srgbClr val="800080">
              <a:alpha val="50000"/>
            </a:srgbClr>
          </a:solidFill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676520"/>
            <a:ext cx="11430000" cy="3111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0    0    1    1  SPIN00000000 SHELL00000000 INTE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 1 14 2-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2  D 8  P 0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 9  P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d8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2p5 3d9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0 3d9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5 3d09  -s0 3d9 p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676520"/>
            <a:ext cx="11430000" cy="4391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4    4    0    4  SPIN00000000 SHELL00300000 INTER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5 2-15 2-10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5  S 2  D 9  D10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6  S 0  D 9  D10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10  D 9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1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2p5 3d10      2    0.0000   11.509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3s0 3d10p     2 1000.0000     .000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5 3d10  -s0 3d10p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    .19275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. Auger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533520"/>
            <a:ext cx="9144000" cy="5829120"/>
            <a:chOff x="0" y="533520"/>
            <a:chExt cx="9144000" cy="5829120"/>
          </a:xfrm>
        </p:grpSpPr>
        <p:grpSp>
          <p:nvGrpSpPr>
            <p:cNvPr id="372" name=""/>
            <p:cNvGrpSpPr/>
            <p:nvPr/>
          </p:nvGrpSpPr>
          <p:grpSpPr>
            <a:xfrm>
              <a:off x="0" y="533520"/>
              <a:ext cx="9144000" cy="5829120"/>
              <a:chOff x="0" y="533520"/>
              <a:chExt cx="9144000" cy="58291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33520"/>
                <a:ext cx="9144000" cy="5829120"/>
              </a:xfrm>
              <a:prstGeom prst="rect">
                <a:avLst/>
              </a:prstGeom>
              <a:solidFill>
                <a:srgbClr val="eaeaea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1520" y="132336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520" y="493344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5880" y="90936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91840" y="132336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08960" y="493344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9480" y="1887120"/>
                <a:ext cx="2194560" cy="282060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704880 h 2820600"/>
                  <a:gd name="textAreaBottom" fmla="*/ 2115720 h 28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52160" y="2451240"/>
                <a:ext cx="2194560" cy="157932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394920 h 1579320"/>
                  <a:gd name="textAreaBottom" fmla="*/ 1184760 h 15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52160" y="425664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949440" y="4686480"/>
              <a:ext cx="548280" cy="564120"/>
            </a:xfrm>
            <a:prstGeom prst="downArrow">
              <a:avLst>
                <a:gd name="adj1" fmla="val 50000"/>
                <a:gd name="adj2" fmla="val 25722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49440" y="1323360"/>
              <a:ext cx="548280" cy="563760"/>
            </a:xfrm>
            <a:prstGeom prst="downArrow">
              <a:avLst>
                <a:gd name="adj1" fmla="val 50000"/>
                <a:gd name="adj2" fmla="val 25706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1066680"/>
            <a:ext cx="9144000" cy="5295960"/>
            <a:chOff x="0" y="1066680"/>
            <a:chExt cx="9144000" cy="5295960"/>
          </a:xfrm>
        </p:grpSpPr>
        <p:sp>
          <p:nvSpPr>
            <p:cNvPr id="96" name=""/>
            <p:cNvSpPr/>
            <p:nvPr/>
          </p:nvSpPr>
          <p:spPr>
            <a:xfrm>
              <a:off x="0" y="1066680"/>
              <a:ext cx="9144000" cy="52959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" y="1708560"/>
              <a:ext cx="201168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" y="5078880"/>
              <a:ext cx="201168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5040" y="1708560"/>
              <a:ext cx="219456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08960" y="1653120"/>
              <a:ext cx="2560320" cy="64188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08960" y="5078880"/>
              <a:ext cx="2560320" cy="64188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5040" y="5078880"/>
              <a:ext cx="201132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" y="2615040"/>
              <a:ext cx="2194560" cy="224676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561600 h 2246760"/>
                <a:gd name="textAreaBottom" fmla="*/ 1685160 h 22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2160" y="2671200"/>
              <a:ext cx="2194560" cy="224676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561600 h 2246760"/>
                <a:gd name="textAreaBottom" fmla="*/ 1685160 h 22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PS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676520"/>
            <a:ext cx="11430000" cy="4391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4    4    0    4  SPIN00000000 SHELL00300000 INTER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5 2-15 2-10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5  S 2  D 9  D10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6  S 0  D 9  D10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10  D 9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1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2p5 3d10      2    0.0000   11.509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3s0 3d10p     2 1000.0000     .000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5 3d10  -s0 3d10p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    .19275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676520"/>
            <a:ext cx="11430000" cy="1282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s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p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90720"/>
            <a:ext cx="9144000" cy="53060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CONF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3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2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2.2   -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1 1 2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1.8   -0.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2 1 2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HAM 2  1.0  0.7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4   1 1   1 2   2 1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  2    1 1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IP 1.837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GAMMA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1      CI 1  DIP  0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F2 = -4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NDAU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IADS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  <a:ea typeface="Times New Roman"/>
              </a:rPr>
              <a:t>&lt;3s3s|1/r|2p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  <a:ea typeface="Times New Roman"/>
              </a:rPr>
              <a:t>p &gt;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143000"/>
            <a:ext cx="13487400" cy="393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51  0.000010  0.000000  0.000000  0.000000  0.000000  0.000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13  0.000000  0.000002  0.000001  0.000000  0.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2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196  0.000016  0.000002  0.000003  0.000000  0.000000  0.000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26  0.000000  0.000011  0.000001  0.000000  0.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5.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-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72640" y="68580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62120" y="1447920"/>
            <a:ext cx="5105160" cy="411480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62120" y="3352320"/>
            <a:ext cx="5029200" cy="2590920"/>
          </a:xfrm>
          <a:prstGeom prst="line">
            <a:avLst/>
          </a:prstGeom>
          <a:ln cap="sq" w="507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914400" y="1828800"/>
            <a:ext cx="0" cy="99072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1828800"/>
            <a:ext cx="0" cy="990720"/>
          </a:xfrm>
          <a:prstGeom prst="line">
            <a:avLst/>
          </a:prstGeom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143000"/>
            <a:ext cx="13487400" cy="393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51  0.000010  0.000000  0.000000  0.000000  0.000000  0.000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13  0.000000  0.000002  0.000001  0.000000  0.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2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196  0.000016  0.000002  0.000003  0.000000  0.000000  0.000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26  0.000000  0.000011  0.000001  0.000000  0.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5.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-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72640" y="68580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62120" y="1447920"/>
            <a:ext cx="5105160" cy="411480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62120" y="3352320"/>
            <a:ext cx="5029200" cy="2590920"/>
          </a:xfrm>
          <a:prstGeom prst="line">
            <a:avLst/>
          </a:prstGeom>
          <a:ln cap="sq" w="507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55872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77156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3s3p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62920" y="609480"/>
            <a:ext cx="6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00000" y="350532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0600" y="7621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76720"/>
            <a:ext cx="4419720" cy="297180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536400"/>
            <a:ext cx="8839080" cy="5864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080" y="5715000"/>
            <a:ext cx="205992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finazzi99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180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. Auger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533520"/>
            <a:ext cx="9144000" cy="5829120"/>
            <a:chOff x="0" y="533520"/>
            <a:chExt cx="9144000" cy="5829120"/>
          </a:xfrm>
        </p:grpSpPr>
        <p:grpSp>
          <p:nvGrpSpPr>
            <p:cNvPr id="108" name=""/>
            <p:cNvGrpSpPr/>
            <p:nvPr/>
          </p:nvGrpSpPr>
          <p:grpSpPr>
            <a:xfrm>
              <a:off x="0" y="533520"/>
              <a:ext cx="9144000" cy="5829120"/>
              <a:chOff x="0" y="533520"/>
              <a:chExt cx="9144000" cy="58291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533520"/>
                <a:ext cx="9144000" cy="5829120"/>
              </a:xfrm>
              <a:prstGeom prst="rect">
                <a:avLst/>
              </a:prstGeom>
              <a:solidFill>
                <a:srgbClr val="eaeaea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1520" y="132336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1520" y="493344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5880" y="90936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1840" y="132336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08960" y="493344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480" y="1887120"/>
                <a:ext cx="2194560" cy="282060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704880 h 2820600"/>
                  <a:gd name="textAreaBottom" fmla="*/ 2115720 h 28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52160" y="2451240"/>
                <a:ext cx="2194560" cy="157932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394920 h 1579320"/>
                  <a:gd name="textAreaBottom" fmla="*/ 1184760 h 15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52160" y="425664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949440" y="4686480"/>
              <a:ext cx="548280" cy="564120"/>
            </a:xfrm>
            <a:prstGeom prst="downArrow">
              <a:avLst>
                <a:gd name="adj1" fmla="val 50000"/>
                <a:gd name="adj2" fmla="val 25722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9440" y="1323360"/>
              <a:ext cx="548280" cy="563760"/>
            </a:xfrm>
            <a:prstGeom prst="downArrow">
              <a:avLst>
                <a:gd name="adj1" fmla="val 50000"/>
                <a:gd name="adj2" fmla="val 25706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s9ni2p3s3p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676520"/>
            <a:ext cx="1143000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8    1.E-11-2   130   1.0  0.65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5.0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0.50 0.0  0.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8     Ni2+ 3d8               3D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2p5 3d09          2P05 3D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s     3S01 3P05 3D0999S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d     3S01 3P05 3D0999D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733920"/>
            <a:ext cx="914400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s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d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g &gt; ??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Times New Roman"/>
              </a:rPr>
              <a:t>als9ni2p3s3p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2286000" y="1676520"/>
            <a:ext cx="1143000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8    1.E-11-2   130   1.0  0.65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5.0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0.50 0.0  0.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8     Ni2+ 3d8               3D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2p5 3d09          2P05 3D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s     3S01 3P05 3D0999S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d     3S01 3P05 3D0999D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73392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s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inetic energy in Rydb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47760"/>
            <a:ext cx="2057400" cy="2514600"/>
          </a:xfrm>
          <a:prstGeom prst="line">
            <a:avLst/>
          </a:prstGeom>
          <a:ln cap="sq"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19920" y="2133360"/>
            <a:ext cx="457200" cy="3352680"/>
          </a:xfrm>
          <a:prstGeom prst="line">
            <a:avLst/>
          </a:prstGeom>
          <a:ln cap="sq"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Times New Roman"/>
              </a:rPr>
              <a:t>als9ni2p3s3p.r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676520"/>
            <a:ext cx="1143000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860.1660   11.5072    0.102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1 3p5 3d9s 11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9500.0000    1.4042    0.0942   14.3893   21.735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3.5824    0.0004   17.7844   10.8434    0.0004    0.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1 3p5 3d9d 18-8500.0000    1.4042    0.0942    0.0002   14.3893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.0003    0.0003    0.0003   21.7354   13.5824    0.0004   17.78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.8434    0.0004    0.0004    0.0004    0.0004    0.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1 3p5 3d2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19415   0.2367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1 3p5 3d2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-0.01005   0.0061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s1 3p5 3d-s1 3p5 3d4   0.00005   0.00005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2p5 3d09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-0.18503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2P//R1// 3D) 1.000HR  36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3s1 3p5 3d9 s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00000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 //R1//   ) 0.000HR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3s1 3p5 3d9 d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00000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 //R1//   ) 0.000HR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4343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rcRect l="11458" t="0" r="0" b="0"/>
          <a:stretch/>
        </p:blipFill>
        <p:spPr>
          <a:xfrm>
            <a:off x="0" y="685800"/>
            <a:ext cx="4692600" cy="5553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vs. non-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990720"/>
            <a:ext cx="48769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non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&lt;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764240" cy="5819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vs. non-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7813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7315200" cy="2373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905120" y="1143000"/>
            <a:ext cx="57909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d3d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708440" cy="64008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356080" y="5486400"/>
            <a:ext cx="27896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martensson99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Photoemission on Ni me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6095880" cy="582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P-CD 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80320" y="5638680"/>
            <a:ext cx="18572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jeng97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0" t="0" r="8204" b="0"/>
          <a:stretch/>
        </p:blipFill>
        <p:spPr>
          <a:xfrm>
            <a:off x="0" y="990720"/>
            <a:ext cx="9144000" cy="269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P-CD 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320" y="3505320"/>
            <a:ext cx="18572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jeng97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800" y="4114800"/>
            <a:ext cx="8607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4,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6,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,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CD =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6/24 = 1/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CD =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0/24 =5/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PS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pole transition 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lt;3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r |2p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Auger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Coulomb operator (1/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&lt;3p3p |1/r |2p </a:t>
            </a:r>
            <a:r>
              <a:rPr b="0" lang="en-US" sz="3600" spc="-1" strike="noStrike">
                <a:solidFill>
                  <a:srgbClr val="00cc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770040"/>
            <a:ext cx="9144000" cy="6087960"/>
            <a:chOff x="0" y="770040"/>
            <a:chExt cx="9144000" cy="6087960"/>
          </a:xfrm>
        </p:grpSpPr>
        <p:sp>
          <p:nvSpPr>
            <p:cNvPr id="123" name=""/>
            <p:cNvSpPr/>
            <p:nvPr/>
          </p:nvSpPr>
          <p:spPr>
            <a:xfrm>
              <a:off x="0" y="770040"/>
              <a:ext cx="9144000" cy="60879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840" y="134280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840" y="359892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4520" y="1342800"/>
              <a:ext cx="216540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6960" y="130572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66960" y="359892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4520" y="3598920"/>
              <a:ext cx="198540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720" y="205920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4160" y="198756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720" y="420804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4760" y="431532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80" y="592704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7560" y="592704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5120" y="592704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PS (3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05560" cy="5825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9099909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0    1    1 INTER0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6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5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    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D08  P05  D01  = 3d</a:t>
            </a:r>
            <a:r>
              <a:rPr b="1" lang="en-GB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8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2p</a:t>
            </a:r>
            <a:r>
              <a:rPr b="1" lang="en-GB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5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76520"/>
            <a:ext cx="1143000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6  D1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6  D09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8L          4    0.0000   12.2341    7.5981    0.0832    0.0000HR999999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6  D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10  P06  D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00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Inorganic Chemistry</cp:lastModifiedBy>
  <cp:lastPrinted>2000-09-25T15:41:05Z</cp:lastPrinted>
  <dcterms:modified xsi:type="dcterms:W3CDTF">2007-02-14T13:49:15Z</dcterms:modified>
  <cp:revision>300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